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49.wmf" ContentType="image/x-wmf"/>
  <Override PartName="/ppt/media/image100.wmf" ContentType="image/x-wmf"/>
  <Override PartName="/ppt/media/image51.png" ContentType="image/png"/>
  <Override PartName="/ppt/media/image105.wmf" ContentType="image/x-wmf"/>
  <Override PartName="/ppt/media/image148.png" ContentType="image/png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52.png" ContentType="image/png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1.wmf" ContentType="image/x-wmf"/>
  <Override PartName="/ppt/media/image106.wmf" ContentType="image/x-wmf"/>
  <Override PartName="/ppt/media/image39.png" ContentType="image/png"/>
  <Override PartName="/ppt/media/image42.wmf" ContentType="image/x-wmf"/>
  <Override PartName="/ppt/media/image139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0.wmf" ContentType="image/x-wmf"/>
  <Override PartName="/ppt/media/image107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0C7D-CBBA-4EAB-B199-BF4F98653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9F7-0DB5-4CCE-A9C0-AE31C62B8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3F10-11B8-4029-B3FC-02C580C8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7697-4797-441D-9C04-9584ADE5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224D-BFCB-487B-B482-E396C2ED9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BCD3-BB8E-413D-83F3-8DF85BCC6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BC0D-3E96-4C12-8883-420E7A04B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7F88-2250-4BAB-9E70-085994E3F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0716-367A-4137-B6A3-BBAD11B76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80D8-5B13-4DBC-943B-C363E413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1963-26AB-4ED7-8831-5D3D47CC0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38F-F55B-41B0-BF99-47F36A47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CF32-97D2-416C-B9D8-56AA71CD4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2EB7-C472-4B18-8EE5-11737362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5C4A-E5C3-4781-8A28-28E6F1381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966F-F972-40D6-B779-87017BD61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6A1E-4F06-45FA-A88B-A810C2EF5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4486-70C3-46BD-A618-14D3C9920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EBF0-534B-4271-9D22-388B0D15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B0DF-CE41-43F9-8C0A-7E4BB8115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BFB1-0AD9-463A-A22F-6E316832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B6A0-25E1-472A-8A49-4CEECBFFE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5040-C18A-46B0-9CEF-2EA6E74C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D088-AFEB-458F-934C-7B5FA0659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F663-92D7-4C45-AC00-37859B8BE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E04-C064-4C8B-BEC0-025044D82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A0FD-DCB2-4BA9-8A14-47CFCB332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CC8-D004-4385-9999-B4EC1AFC8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Sedgwick\AppData\Local\Microsoft\Windows\Temporary Internet Files\Content.IE5\IP6KVSN2\MCj04363940000[1].png"/>
          <p:cNvPicPr/>
          <p:nvPr/>
        </p:nvPicPr>
        <p:blipFill>
          <a:blip r:embed="rId6"/>
          <a:stretch/>
        </p:blipFill>
        <p:spPr>
          <a:xfrm>
            <a:off x="3848040" y="213372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Users\Sedgwick\AppData\Local\Microsoft\Windows\Temporary Internet Files\Content.IE5\53FYB3GW\MCj04368640000[1].png"/>
          <p:cNvPicPr/>
          <p:nvPr/>
        </p:nvPicPr>
        <p:blipFill>
          <a:blip r:embed="rId5"/>
          <a:stretch/>
        </p:blipFill>
        <p:spPr>
          <a:xfrm flipH="1" rot="16692000">
            <a:off x="1142280" y="39639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:\Users\Sedgwick\AppData\Local\Microsoft\Windows\Temporary Internet Files\Content.IE5\ST318XTT\MCSY01850_0000[1].wmf"/>
          <p:cNvPicPr/>
          <p:nvPr/>
        </p:nvPicPr>
        <p:blipFill>
          <a:blip r:embed="rId6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my Spalt</cp:lastModifiedBy>
  <dcterms:modified xsi:type="dcterms:W3CDTF">2013-08-22T17:21:45Z</dcterms:modified>
  <cp:revision>92</cp:revision>
  <dc:subject>Keyboarding</dc:subject>
  <dc:title>Kindergarten Adventures in Keyboarding</dc:title>
</cp:coreProperties>
</file>